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20958"/>
        <c:axId val="19189376"/>
      </c:barChart>
      <c:catAx>
        <c:axId val="70420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89376"/>
        <c:crosses val="autoZero"/>
        <c:auto val="1"/>
        <c:lblAlgn val="ctr"/>
        <c:lblOffset val="100"/>
        <c:noMultiLvlLbl val="0"/>
      </c:catAx>
      <c:valAx>
        <c:axId val="19189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20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52A-E974-4798-BA1A-8C48A044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CAE-2201-491E-A772-65855CF2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D22-5EE1-462B-A16A-0400965B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3C0-A2AF-41D5-BA25-068E3806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D77-A6C3-4F70-8274-0ED8E115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DDB-4D1A-4433-823D-C16609E8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1C4-8E37-4B65-ABCF-B27340D2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5BC-EDC9-40B7-B6ED-96EA15A9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D97-A7C5-4D37-9A6E-FC31ADDE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46C-207A-4050-BBC7-F5868840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08B-03B4-4138-8771-A1AD4C54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020-8394-461A-8669-BF464DCE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C7BD5-849E-407B-B7BF-BBA5160BE9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