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45272A-8FA0-4333-8F07-A28459A0AA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0239E5-E453-4121-B62C-38C7F4EBC6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FC6AC9-4917-4356-A457-0C341EC15B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E6631E-428F-4F20-B1D2-E05B0F535B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D0290C4-AC6A-4012-B073-622A576E825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B7E69B-7412-4A8B-835C-D9D4645031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F531DF-826F-42DD-B222-8D14C9711D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2B895B-BFDC-46B7-9735-CADB80DD76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983AD2-6BC6-4CFC-A09D-5B0D594A9B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9AFA1A-555C-4BD5-8646-89287A1C8A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B67680-386E-40CA-9F9F-5CA6DC6B65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FE744C-2694-4E99-9424-0AEE75D5F4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DEB0CC-0280-4301-A9E1-B26E5FB1FF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6A114C-2312-4D09-980E-70D4C65CA1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9C7504-28F9-4D79-ADB7-3C7309A4FB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5E20145-5D03-41BC-B6EA-24832DB5071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5E8D338-3E26-4F5B-8D19-E3CCD259208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8F9A52-FA85-4956-9082-12B13AD3DB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4B1A4B-D58B-4025-ABE7-D032A15189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5EF76F-2234-4769-B6C7-180407DF9B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1BB892-8CE0-4AB2-B3AC-E570B2D797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4D6364-19EE-46A6-8B8D-FC1F8C201B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86C2DB-8C20-4C5A-BA0A-D3BA96AE79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E0B367-EFC2-486A-9016-474B369FF2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585FDA-9569-46A4-9441-CC31137F439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F40288-E78B-46A1-8A39-7A083809B5B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DDE5F6F-57DF-4691-AE1D-14E14CC6E8B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E70761B-8E24-44C1-873B-05E941F67DE6}"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54ABC3-2FAA-4E29-8325-061C9F2DDC19}"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EB975F-2A58-4417-81B1-E8CBD3D6736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4227F1-D40F-4821-912D-2D125B6FE1B1}"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AB7D43-A0A0-4074-BB6E-83BE5F01AFF2}"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4CEBC5-EBB4-4BD1-9FA1-B63C3E4F8AA8}"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D60752-8E54-4A7E-96F3-8899F60B59B2}"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562D9E-597F-4532-807F-F483464BF156}"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68555C-4B1A-4E33-A1E8-0D493CDF0C2C}"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98E754-42C3-425C-81F7-48ACDBE663D9}"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30C1CE-8233-4631-AB78-C92F6AF6B627}"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E3B555-80A9-4A99-98B2-E12F6990C535}"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CE4681-F4B0-450C-95CC-730B2BB71D6F}"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763433-79CF-4F7B-9BC6-6CD4AD92A58D}"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8DC6A7-74FD-408C-A71D-811A9E3A70BD}"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AC1A64-8C65-40E1-A21C-6977DF2DF85B}"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435AD7-25C6-442C-9071-58511F63289F}"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EE75FB-61BE-42E4-B711-DB34EB588A53}"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D9B068-11A1-49B5-81C5-7872E981E585}"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C22569-5C76-4069-8970-3728004D8F5E}"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25A4B2-CA79-4E61-8187-24C9F1BD30E2}"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CE1329-7936-49FE-9E35-0A5A192ADDC8}"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7E34F8-5EE5-489D-93F8-DBDAF3290860}"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156C5D-0066-4A3A-9FCD-0E30D6E8D67D}"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E46519-3A1B-499B-847D-158FD78CE392}"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AFC864-4DE6-403E-A758-D6C531C7229A}"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62E1FDD-8619-4C6F-9716-95294A423EB1}"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76C5E5-C568-40D6-B709-F6F0BF46A4DF}"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FE4225-B512-44ED-AEEF-61EE1908DC94}"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6848D7-7D97-4F6D-B408-434992E7BBFC}"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556B14-147B-48B3-BC16-0740868EF826}"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64CF91-5C9E-4BA6-8303-5EAB83DE7BA1}"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AAA79D-0E91-49B0-88B2-CB5491F48785}"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464CCE-A120-46B5-BF26-A35EE0C0BD94}"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2D0AB8-2599-4C37-BBC1-CB3137FC875A}"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CAA8A4-5497-451F-8707-D1CBD31E956E}"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151943-69DE-4A89-9D04-C8F612AC6944}"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1C3552-AA7A-494B-BFD8-CAFD8BC985E2}"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59C280-98F3-419B-B8A5-139CE9A049C4}"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BA5A69-3F4A-4332-99A4-F04DE698853D}"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B04F0A-AC02-4017-8045-E29A1D3D1829}"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DCC9BB-E2FA-4E81-8BF7-99EAFE09EEF3}"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3E0047-6A06-4EA2-8EDC-A1D8AF39DBDB}"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00C899-7FCE-422C-B5F6-DCEA3C85376F}"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A0521B-8E70-47E2-ADEA-9E44AB8AD134}"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F2FE5E-0A9A-4648-AE23-2D1F2EC251F0}"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A527DF-4D20-4711-AF94-913E4A1113CE}"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096590A-64B1-4A72-8ABE-FF8EC3F76207}"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44D7EB-D338-45E0-8999-9D74F40BBC3A}"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01D906-40D2-4903-BB77-AF1D1D0568F3}"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C148460-CE38-4FB5-9367-6B45AE576BF4}"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10E7A1-4745-4AC1-BF6B-A4639A05DFAD}"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304905-1A4C-411A-BCFC-81DA775C2071}"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6F97D0-7972-492C-9E5A-1FB4E00DAD34}"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5DD30F-379D-4B0C-B9DC-42CC658CFDDB}"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AADD66-A8F0-40CA-8B84-474AE9D14473}"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E55D5C-E2A1-4B08-9DB3-B12087C6B389}"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C4CA5E-FD9F-477C-BE77-7B4377C2839A}"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247D1EC-D5E8-4843-A9BC-D27E2B340B93}"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49DEE2-108F-412C-B23A-D31BD64861FB}"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F4AC0C-7EBD-466A-B907-D3B6523BF4A7}"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14AC33-9118-4020-806A-1C5212A93D31}"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BDF860-6583-4D63-9A2B-C70D9669E7F7}"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70797B-8ABD-412E-9F1F-26CB51DCC1D1}"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8E8034C-50B6-4B78-A904-95EAD5E42AC4}"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5A943F-2277-4506-BFF5-5251FE744132}"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0F826F-F8D4-4286-A4D6-720867E444F6}"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CEF493-5999-4E20-9895-ADDA6EF25448}"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8C3BF2-259F-4138-96BF-241D459AE5DD}"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8F21407-4EF3-4228-9E3E-22A0E5B02727}"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B29176-E7AD-4F1D-A7ED-1B78E53BEE6E}"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DBA451-6492-49F9-91BF-F3EEE396F8D0}"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ECC947-E1C9-42F9-9121-3658356B757A}"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D7ABBB-C821-4A81-B9B1-7ED30A6C388E}"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718C85-1DEF-43AE-87DE-038A9051B13B}"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7E37D3-9752-4CDA-9E08-8C5766356E4B}"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1DEF0DA-D2D2-4DB2-9F4A-C27D13D871B7}"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A32849-BB51-4013-A93A-4575001FB3FD}"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4743DC-CE8F-45B6-97FC-C31BA57C7FAC}"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3A2AE2-CFC1-44B7-A5B8-38A051E3A562}"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0D72EFE-A583-46B8-8EB9-96195A2ADFD3}"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762D6B-61D8-482C-8CEB-D47BB4BBF161}"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5EBEE55-E122-457D-8CBA-715B150ABFA2}"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A8C6F2-A0E7-445D-A07D-405799B7A5B2}"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EF6A50-B2C7-40AA-9764-597C7250A7B1}"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8D6242-5702-4121-928D-2AA096BD5A07}"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5EE528-2CEE-44E8-9987-CE7E096F752A}"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059A03-719B-462B-81DF-09AA78F393DA}"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0E99A4-997C-4056-9A8F-C97C95C8D88D}"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2D2DCC-EE0A-4C7E-BCA8-C9E59ADC5DC1}"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C3D64E-55F2-4FDA-B4C9-9952A430EA97}"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79A91E-1EA2-4DCE-9C2D-9D87602E5095}"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34FD6C-F76B-4FFD-A58E-88AD623B7983}"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8657F4-AE94-453C-8D79-E4858672EBDF}"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A7220C-6475-48BA-B8B2-98F5BB9FC1A4}"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8D770E-8D0D-48D7-8C43-790701DB24B1}"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35D4F3-9C4C-4D98-AFD6-FDDC9A8BAF31}"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012BB2-48F0-47B3-B8DC-AFA4C85585D9}"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AE1156E-25D6-4D9C-9DE5-024917C581B9}"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3847C4-A1D2-4A97-98BD-ADBDC66A294E}"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28A770-3A93-467A-A9C7-D0EBFFE98E83}"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5D13FE-3E6E-431A-807E-A35302FDD789}"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E381C2-F26C-4C57-B05E-B208CEF5A414}"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5469EB-5219-429A-8162-76DD19A6AE8B}"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66469B-5058-4205-B20C-0F5701CF0813}"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BED726-57A6-4EAC-A985-C98EE2EFA033}"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E8C5F2-E2B3-4A88-A7B5-5474BA4B1A58}"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BFDBC6-0DDC-44F3-8943-9EE28896029F}"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2C7212-845E-48BB-AC26-749A46230F2B}"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75CF4C-D831-4BC5-A51D-485A67990457}"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31D319-24D0-4561-B40E-867C75C813F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215502-A50C-4857-B2BE-806AF581F4DD}"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8CEE4B-9944-49D2-B784-BC13778B14F3}"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74C8BA-EE7C-4669-8906-DE4577ACACE8}"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89BE50-B27E-4DD2-B639-649DECA8D988}"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1B3DF6-4126-42C3-8502-68804424437E}"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973AD4-4DE2-4C49-A478-C3913602FF37}"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E625E5-6262-4C3D-BDAA-1D0B1F9D52B2}"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862C45-AB4B-4721-9817-82A68F9F07C1}"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E3AEC6-09C2-4733-A6E0-86C0946AD7B5}"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75C90C-EC89-4836-AC23-A540C383BCEF}"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B8AC42-09DB-4E0A-8242-777E05342001}"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710A0F-0A5A-4E12-9B74-58778A45FF78}"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97AE7E-E265-455C-A154-27B7E5F84F1E}"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160B27-5919-47C7-8BDF-D26224075C1D}"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9620D1-E1F9-4A26-B52B-6AFCE23AE16A}"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810F7F8-5D1F-4406-914B-B35680EFD6B1}"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DB3486-27FA-4B49-96AB-28EEF42CD47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176B2C-B6CB-4D41-9D8C-51ABC86E46B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084DB6-304A-4B9F-81A1-EF0C28A42D3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2C8DEF-23EB-48A9-9D5A-EC4CA9D2E65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3E7D47-EE63-4E92-BAA8-820C9CC565A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FDC24D-162C-4ECE-B2D1-BDD66D89349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E0D51C9-35C5-49F0-A068-78F2AA50600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E0648E-4A00-48F7-8519-99B8B8D07D6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54231D-56CA-4372-BE9F-A79AA1285C2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4C3CAC-21F7-454D-8532-2A2196B245F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A8FFE4-0858-4DB4-8F7C-973D81F583E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D8F218-FF72-4D09-A652-BFDCDFE9DD8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4789D5-9741-48FC-BC76-051DE372BF0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AF41AD-1A7C-48C1-9E09-02FB93B4691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0A727E-E0AE-46C8-8EB2-9299012E267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F61179-7B99-4593-8D43-56B6937D60B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8C852D-1332-488C-BDFE-7A1F98EC68A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717EAF-4A54-463E-B758-1B4D05FA6DB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044007-6B78-473B-B8A7-59055F949A8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3D63DE-18BE-4A13-ACD2-2D80CCA8B09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45831D-F325-4E7D-AFFD-4F0B65BF409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D98FA0-1A5B-4B84-A169-413151D05ED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447D63-3D4C-4D88-A11F-6E33B434AC6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EE3FF5-8662-4E23-A448-0A250607E0B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76B9F1-C302-4E5F-B2ED-F4A1599D26E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22AE77-686A-42FC-9B3A-F7ED8D9A68F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6094B5-87ED-47C5-B64A-6C21A7C53E2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0A4E4F-86AB-4F6E-9F23-55371837228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8740CC-2293-41F0-80D4-F7946AB494D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A6459F-A850-4B36-A04B-9F19630AEF5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748FD7-4C8D-48D3-8878-91407FB39D4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1EB990-2C87-45F5-B959-26291DBFD9A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CFB4C8-D581-4362-AD1D-E1B5521481B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2882F0-8CE1-4F57-ADBD-89812D146BD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BE2981-BF71-4B0C-A1D8-90A01B60E59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B720BC-C42E-4638-963C-EA963E4DC11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33ABFD-F35E-4553-B334-9F888BBD1C6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855CF6-5C2A-469B-8F16-27B4D4DD44B2}"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17B51B-F2EF-4C4A-B20F-C9ACBDC55E2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806DFB-E809-4FC2-A2A4-ED4CB9BB979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68B370-5593-450F-BDF0-E0956537112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538D9C-C52E-4398-8633-5B9F9A306D83}"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16FD90-8C6E-4A6D-ABDF-C45EC495FC88}"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695EF6-8833-442A-9566-F3E05C3E9C2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A52BA9-6618-46C4-9DF9-B0A1012E174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2BA18B-111D-4DE5-A70E-2C003B4067D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7CF70A-7428-499E-86B4-DE939E40A9B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9837E82-6A0C-4E91-8AC7-7ED30DEEEA75}"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EE10EB-725E-4628-876E-6B003614AB7B}"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E758D8-785F-400A-8426-2E41588B3E1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AD8C17-72AF-4CC4-BEF6-433B06A1B11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D1BD05-F661-4B07-84D2-95425578CD2A}"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37E216-6ED4-4D88-AE48-9346DA1D582A}"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46F2EB-7A6A-448A-9D47-AF2DA9083B3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1B3DE4-18AF-4872-A7CB-46DD9D995B03}"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D35F8A-F621-465F-B4C2-306877B5AD7D}"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5C2407E-6CB1-415B-818C-4A8389456F3A}"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5EB4D8-310B-4CC2-B8D0-59C04E2BD1F6}"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357451-4645-4AD9-B2AB-A1D4837D2CC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5FACBB-1CF9-4484-A978-41299A1CDFA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1F6D73-D0B5-4373-83F8-1C10E1EC06A3}"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2D2A92-6630-42DD-958D-BADA0E0DDD3F}"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D7D7C1-1DC4-400A-9469-A9EAB3F00C54}"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9C085B-1DAD-4CDD-ABD5-483931435CEA}"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ADA501-3824-4E55-B0B6-69D22F873C0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9C3100-B6CF-4A1C-9DF5-1595F2E4682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33C36C-5217-4C0A-B155-81CEC02DD401}"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EC8F60-D3E4-41D2-9A6A-8D26C27925CE}"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0FBC33-3690-4CA6-A1B1-7A8CD0B6D54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D12D7D-F5D7-4120-9605-29D1820885E4}"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4CC36A-2727-4856-987E-CC59F9DA6ED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D2124F9-F7C4-47F2-8F19-5FF160B9D82B}"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ED9934-DC3F-4D10-94F4-81185B3296E7}"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EF92E4-D6CA-4B0C-BB1C-331D2DD2E311}"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501F20-8B8D-494E-B6A7-B75AC688E97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E98CF3-AEDC-4F57-8712-412DD59101C1}"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A65074-14D0-4F82-9A95-04E6E80A142E}"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DE26C2-23A6-4C66-B492-CE035AE0EE5A}"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7F80DB-A469-4799-9385-EEE51AF3762C}"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913C65-4492-4C16-A176-6CBCC5D3E7AC}"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B70EB8-3125-449C-9FFB-E0AEE6D78D9C}"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8C4765-207C-4BB8-BBC4-BB9AD4C8131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F9367A-2A15-41DF-8AD7-71C95CBDBF78}"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CB4DE3-E66D-494D-BE5E-166C3809AB54}"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01BF8C-0EA5-4003-8336-7486C716970F}"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