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D15B-BD84-4926-BC45-72AC3B719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62018-3055-44DF-863C-1EB917CB8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E5070-AEB8-45B5-BE52-BD4C2E82D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2EDB8-04CC-4E2C-91D6-120D6436E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3C31C-9AC1-41F8-BF43-ACF9FFB7B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93AE8-F354-4A59-BF8B-0A06C1F17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D5F00-45CC-479D-B906-447F8E041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24220-2AE0-4FA3-8C24-31A480A22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41DDE-9FEE-4858-9CFA-1E836E3D4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46621-3EC1-41AF-9E7E-453899D9D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9921D-28A9-46D9-B684-834562906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D0C4A-41A6-4DB5-9A3A-ED5CAC611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5B09C-6A5B-46D0-BE54-676A35678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6102-2416-49CE-87CB-668608241B3A}" type="datetime3">
              <a:rPr b="0" lang="en-US" sz="1400" spc="-1" strike="noStrike">
                <a:solidFill>
                  <a:srgbClr val="ffffff"/>
                </a:solidFill>
                <a:latin typeface="Times New Roman"/>
              </a:rPr>
              <a:t>July 31,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6C48-E667-4468-B0D7-2436B29129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A3D5B08-2C4D-41EC-8558-87F1732663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142BB6F-ED4F-4E0B-93B9-96CABE1D72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15742B5-51A9-4CFB-B209-80105D8662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0BF767A-41A7-4ED3-AE82-D6C196AE78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F46303-B767-4DA9-8E0F-8219BFF5F4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BA2380-0F02-436C-A949-9706144DA74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D637E83-E479-404D-93AC-A29B284825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B0D1650-14D3-4AA6-B827-B3CC837D2F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DCB3E68-A173-4058-A8FC-BE20B590E4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99204B0-2A30-4A22-9DF9-B95596F21A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DAD2AC6-6A09-498B-B1B8-C50A99A34E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30114E0-C251-4B37-9F62-4201BADFCF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4794C92-5DAB-412E-8A80-7B357F1723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9627E60-E425-4459-88CF-7C04F57F7B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